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B485-3590-43AF-AABA-2DC208A57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052F-7379-4C54-9153-1B593E82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2713-4A7A-4E3E-8194-FC34C447B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40FE-BEFF-43B3-9248-1A17648E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5918-BE02-4611-AFBA-DFEA489F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C616-23D2-4BEE-B0FF-829AA286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DC66-90DD-4C42-82E8-853FE3A8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B5BC-35D0-4AAC-A020-DEEFD029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EBBE-DE6B-4685-99ED-1DEAA9B7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8814-0986-4B16-9D42-4FE2ABD3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DD12-9185-4010-A180-7D518C60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64EB-27A0-4C5D-8A7F-7EB516F7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1B17-D55B-463A-BC4D-EE62C9F9F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18240" y="2738520"/>
            <a:ext cx="457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"/>
              </a:rPr>
              <a:t>As the De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71720" y="0"/>
            <a:ext cx="6685200" cy="20437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  <a:ea typeface="Times New Roman"/>
              </a:rPr>
              <a:t>As the Deer pants for the wa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  <a:ea typeface="Times New Roman"/>
              </a:rPr>
              <a:t>So my soul longs aft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  <a:ea typeface="Times New Roman"/>
              </a:rPr>
              <a:t>You alone are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  <a:ea typeface="Times New Roman"/>
              </a:rPr>
              <a:t>And I long to worship You.</a:t>
            </a:r>
            <a:r>
              <a:rPr b="1" lang="pl-PL" sz="32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2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69120" y="-60480"/>
            <a:ext cx="7594920" cy="20437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ou alone are my strengths, my shie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o You alone may my spirit y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ou alone are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nd I long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4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435960" y="85680"/>
            <a:ext cx="746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Papyrus"/>
                <a:ea typeface="Times New Roman"/>
              </a:rPr>
              <a:t>I want You more than gold or sil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Papyrus"/>
                <a:ea typeface="Times New Roman"/>
              </a:rPr>
              <a:t>Only You can satisf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Papyrus"/>
                <a:ea typeface="Times New Roman"/>
              </a:rPr>
              <a:t>You alone are the real joy-g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Papyrus"/>
                <a:ea typeface="Times New Roman"/>
              </a:rPr>
              <a:t>And the apple of my eye.</a:t>
            </a:r>
            <a:r>
              <a:rPr b="1" lang="pl-PL" sz="3200" spc="-1" strike="noStrike">
                <a:solidFill>
                  <a:srgbClr val="660033"/>
                </a:solidFill>
                <a:latin typeface="Papyru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69120" y="-60480"/>
            <a:ext cx="7594920" cy="20437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ou alone are my strengths, my shie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o You alone may my spirit y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ou alone are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nd I long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2902"/>
                </a:solidFill>
                <a:latin typeface="Papyrus"/>
                <a:ea typeface="Times New Roman"/>
              </a:rPr>
              <a:t>You’re my Friend and You are my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2902"/>
                </a:solidFill>
                <a:latin typeface="Papyrus"/>
                <a:ea typeface="Times New Roman"/>
              </a:rPr>
              <a:t>Even though You are a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2902"/>
                </a:solidFill>
                <a:latin typeface="Papyrus"/>
                <a:ea typeface="Times New Roman"/>
              </a:rPr>
              <a:t>I love You more than any 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2902"/>
                </a:solidFill>
                <a:latin typeface="Papyrus"/>
                <a:ea typeface="Times New Roman"/>
              </a:rPr>
              <a:t>So much more than any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69120" y="-60480"/>
            <a:ext cx="7594920" cy="20437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ou alone are my strengths, my shie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o You alone may my spirit y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ou alone are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nd I long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7000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19:14:59Z</dcterms:created>
  <dc:creator>TrifonTrifonow</dc:creator>
  <dc:description/>
  <dc:language>en-US</dc:language>
  <cp:lastModifiedBy>TrifonTrifonow</cp:lastModifiedBy>
  <dcterms:modified xsi:type="dcterms:W3CDTF">2005-10-22T19:43:18Z</dcterms:modified>
  <cp:revision>6</cp:revision>
  <dc:subject/>
  <dc:title>Slide 1</dc:title>
</cp:coreProperties>
</file>